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88C2-2F06-4907-BEEE-FF5A2A45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156-8982-496A-9ECC-FE59505D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CE19-73F6-4280-8A0A-1B8B9D81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9A3C-697D-4999-ACFB-E375D891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E141-EDA2-46FD-93B4-42E6E072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777B-8BCF-4AB0-A8F7-FC4F2022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FB88-0115-4B6F-8988-5735B4F7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A742-29A9-40E0-9C83-8D164A98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6DE5-23D8-44C2-AB23-709EB31D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BB8E-96CD-4F9B-AA16-2551C7F0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2BC-3E2F-45F3-AF38-2D5DDEDF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3E74-8E07-45F0-AD2D-68228348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F566-7896-40F3-945C-3BADDFC5A98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55640" y="1962000"/>
            <a:ext cx="792000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003366"/>
                </a:solidFill>
                <a:latin typeface="Arial"/>
              </a:rPr>
              <a:t>Κρατικές Ενισχύσεις και Ανάπτυξ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3366"/>
                </a:solidFill>
                <a:latin typeface="Arial"/>
              </a:rPr>
              <a:t>«Εξωστρέφεια και Ελληνικές ΜΜ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3366"/>
                </a:solidFill>
                <a:latin typeface="Arial"/>
              </a:rPr>
              <a:t>Σχέση της με προγράμματα κρατικών ενισχύσεων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260160" y="4550040"/>
            <a:ext cx="312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Arial"/>
              </a:rPr>
              <a:t>Κυριάκος Λουφάκ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Arial"/>
              </a:rPr>
              <a:t>Πρόεδρος ΣΕΒ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564000" y="5661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18 Σεπτεμβρίου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201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8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B8D0-AD74-4FFE-96F5-5A817EF4073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seve_logo_gr"/>
          <p:cNvPicPr/>
          <p:nvPr/>
        </p:nvPicPr>
        <p:blipFill>
          <a:blip r:embed="rId1"/>
          <a:stretch/>
        </p:blipFill>
        <p:spPr>
          <a:xfrm>
            <a:off x="2843280" y="33480"/>
            <a:ext cx="37447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539640" y="3284640"/>
            <a:ext cx="817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3366"/>
                </a:solidFill>
                <a:latin typeface="Arial"/>
              </a:rPr>
              <a:t>Σας ευχαριστώ πολύ για την προσοχή σ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28E5-BCE7-4EF4-BF3A-7A2CBC369AE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seve_logo_gr"/>
          <p:cNvPicPr/>
          <p:nvPr/>
        </p:nvPicPr>
        <p:blipFill>
          <a:blip r:embed="rId1"/>
          <a:stretch/>
        </p:blipFill>
        <p:spPr>
          <a:xfrm>
            <a:off x="2268360" y="549360"/>
            <a:ext cx="4464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539640" y="1197000"/>
            <a:ext cx="828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3366"/>
                </a:solidFill>
                <a:latin typeface="Arial"/>
                <a:ea typeface="Arial"/>
              </a:rPr>
              <a:t>Υφιστάμενη Κατάστασ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0" y="2205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Arial"/>
              </a:rPr>
              <a:t>Εξαγωγές: Το «κλειδί» για την αναθέρμανση της ελληνικής οικονομί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seve_logo_gr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1403280" y="2781360"/>
            <a:ext cx="61930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seve_logo_gr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92160"/>
          </a:xfrm>
          <a:prstGeom prst="rect">
            <a:avLst/>
          </a:prstGeom>
          <a:ln w="0">
            <a:noFill/>
          </a:ln>
        </p:spPr>
      </p:pic>
      <p:sp>
        <p:nvSpPr>
          <p:cNvPr id="51" name="Ορθογώνιο 1"/>
          <p:cNvSpPr/>
          <p:nvPr/>
        </p:nvSpPr>
        <p:spPr>
          <a:xfrm>
            <a:off x="324000" y="1366920"/>
            <a:ext cx="8064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Στην Ελλάδα, οι Μικρομεσαίες επιχειρήσεις (ΜμΕ) συνεισφέρουν το 35% των εξαγωγών, έναντι 24% για τις ευρωπαϊκές Μμ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Y</a:t>
            </a: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πάρχει ένας μεγάλος όγκος σχολάζουσας παραγωγικής δυναμικότητας στις ελληνικές επιχειρήσει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Το σημαντικότερο πρόβλημα σήμερα των επιχειρήσεων –εξαγωγικών και μη- είναι αυτό της έλλειψης ρευστότητας και των κεφαλαίων κίνησης καθώς και το υψηλό κόστος χρήματο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Ζητούμενο είναι να υπάρξει ενίσχυση των κεφαλαίων κίνησης των επιχειρήσεων μέσω εναλλακτικών πηγών, διάφορων του συμβατικού τραπεζικού δανεισμο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457200" y="220680"/>
            <a:ext cx="82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Arial"/>
              </a:rPr>
              <a:t>Υφιστάμενη Κατάστα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seve_logo_gr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92160"/>
          </a:xfrm>
          <a:prstGeom prst="rect">
            <a:avLst/>
          </a:prstGeom>
          <a:ln w="0">
            <a:noFill/>
          </a:ln>
        </p:spPr>
      </p:pic>
      <p:sp>
        <p:nvSpPr>
          <p:cNvPr id="54" name="Ορθογώνιο 1"/>
          <p:cNvSpPr/>
          <p:nvPr/>
        </p:nvSpPr>
        <p:spPr>
          <a:xfrm>
            <a:off x="250920" y="260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Παράγοντες που πρέπει να ληφθούν υπόψη σχετικά με τις επενδυτικές ενισχύσει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Ορθογώνιο 2"/>
          <p:cNvSpPr/>
          <p:nvPr/>
        </p:nvSpPr>
        <p:spPr>
          <a:xfrm>
            <a:off x="250920" y="1989000"/>
            <a:ext cx="864216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40404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Αναγκαία συνθήκη η κεφαλαιακή επάρκεια και η πρόσβαση σε πηγές χρηματοδότησης από την πλευρά των επιχειρήσεω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40404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40404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40404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40404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Οι επενδύσεις στη μεταποίηση είναι μικρότερες απ’ ότι θα έπρεπε να τους αναλογεί στις συνολικές επενδύσει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40404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40404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40404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40404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O</a:t>
            </a: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ι επιχειρηματικές ενισχύσεις δεν μπορούν να μην έχουν και κλαδική στόχευσ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seve_logo_gr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92160"/>
          </a:xfrm>
          <a:prstGeom prst="rect">
            <a:avLst/>
          </a:prstGeom>
          <a:ln w="0">
            <a:noFill/>
          </a:ln>
        </p:spPr>
      </p:pic>
      <p:sp>
        <p:nvSpPr>
          <p:cNvPr id="57" name="Ορθογώνιο 1"/>
          <p:cNvSpPr/>
          <p:nvPr/>
        </p:nvSpPr>
        <p:spPr>
          <a:xfrm>
            <a:off x="289080" y="173160"/>
            <a:ext cx="63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Τι πρέπει να ισχύσει στις ενισχύσεις της περιόδο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2014-20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Ορθογώνιο 2"/>
          <p:cNvSpPr/>
          <p:nvPr/>
        </p:nvSpPr>
        <p:spPr>
          <a:xfrm>
            <a:off x="395280" y="1076400"/>
            <a:ext cx="85122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H</a:t>
            </a: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 ενίσχυση στις επιχειρήσεις πρέπει να έχει ως κεντρικό στόχο την αύξηση της βιομηχανικής παραγωγή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Η χωρική διάσταση της αποβιομηχάνισης πρέπει να ληφθεί υπόψ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Να δοθεί ιδιαίτερη προσοχή στις πραγματικές μικρομεσαίες επιχειρήσεις (10-5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Είναι απαραίτητη η δημιουργία περισσότερων προγραμμάτων με στόχευση στη διεθνοποίησή των επιχειρήσεων - Να σχεδιαστούν προγράμματα «ομπρέλα», τα οποία θα παρέχουν εργαλεία ολοκληρωμένης υποστήριξης για πρόσβαση σε νέες αγορές στις επιχειρήσει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Η εξωτερική ζήτηση συμπεριφέρεται καλύτερα, και μάλιστα οι χώρες εκτός Ευρωζώνη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Θα πρέπει να επιδιωχθεί διασπορά κινδύνου, μια επαναστόχευση και διαφοροποίηση των εξαγωγικών στόχων, σε αγορές πιο ώριμε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Σε ετήσια βάση να υπάρχει στρατηγική κλαδική ανάλυση των εξαγωγών αλλά και σε μακροπρόθεσμο επίπεδ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Είναι αναγκαία η ενσωμάτωση της έρευνας, της τεχνολογίας και της καινοτομίας στην παραγωγική διαδικασία ως παράγοντας ανάπτυξη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seve_logo_gr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92160"/>
          </a:xfrm>
          <a:prstGeom prst="rect">
            <a:avLst/>
          </a:prstGeom>
          <a:ln w="0">
            <a:noFill/>
          </a:ln>
        </p:spPr>
      </p:pic>
      <p:sp>
        <p:nvSpPr>
          <p:cNvPr id="60" name="Ορθογώνιο 1"/>
          <p:cNvSpPr/>
          <p:nvPr/>
        </p:nvSpPr>
        <p:spPr>
          <a:xfrm>
            <a:off x="324000" y="18900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Θέσεις/ Προτάσεις ΣΕΒΕ για το νέο ΕΠΑΝΕ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Ορθογώνιο 2"/>
          <p:cNvSpPr/>
          <p:nvPr/>
        </p:nvSpPr>
        <p:spPr>
          <a:xfrm>
            <a:off x="324000" y="995400"/>
            <a:ext cx="83516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1. Ανάγκη για ξεκάθαρη συνολική πολιτική για τις ΜΜΕ η οποία αποτυπώνεται μέσω των 9 κλάδων προτεραιότητας, με παρεμβάσεις που θα στοχεύουν στην κερδοφορία και θα έχουν ως προτεραιότητα την ενίσχυση των εξαγωγώ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2. Απλοποίηση προγραμμάτων, με καταλληλότερη διαδικασία τύπου «καλαθιού ενισχύσεων», χρονικά «ανοιχτή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3. Επικέντρωση σε εξωστρεφείς επιχειρήσεις με ένταξη των παραγωγικών φορέων στο σχεδιασμό/ υλοποίηση των δράσεων και δυνατότητα για κατά αντικείμενο ανάθεση μερών του προγράμματος σε εξειδικευμένους φορεί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4. Επικέντρωση στη μεταποίηση και την παραγωγ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5. Ανάγκη χρηματοδότησης δράσεων που απαιτούν κεφάλαιο κίνησης και όχι μόνο επένδυσ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6. Ουσιαστική εφαρμογή της εταιρικής σχέσης με την ενεργό συμμετοχή αξιόπιστων φορέων εξωστρέφειας στο στάδιο εξειδίκευσης και υλοποίησης του προγράμματο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7. Επιλογή του ΕΦΕΠΑΕ ως φορέα διαχείρισης του προγράμματος, καθώς διαθέτει την απαραίτητη εμπειρία και τεχνογνωσία, τις αναγκαίες υλικοτεχνικές υποδομές και τους ανθρώπινους πόρους υψηλής εμπειρίας στη διαχείριση ενισχύσεω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seve_logo_gr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92160"/>
          </a:xfrm>
          <a:prstGeom prst="rect">
            <a:avLst/>
          </a:prstGeom>
          <a:ln w="0">
            <a:noFill/>
          </a:ln>
        </p:spPr>
      </p:pic>
      <p:sp>
        <p:nvSpPr>
          <p:cNvPr id="63" name="Ορθογώνιο 1"/>
          <p:cNvSpPr/>
          <p:nvPr/>
        </p:nvSpPr>
        <p:spPr>
          <a:xfrm>
            <a:off x="108000" y="15732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Προτεινόμενες Δράσεις για το νέο ΕΠΑΝΕΚ από τον ΣΕΒ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Ορθογώνιο 2"/>
          <p:cNvSpPr/>
          <p:nvPr/>
        </p:nvSpPr>
        <p:spPr>
          <a:xfrm>
            <a:off x="395280" y="1268280"/>
            <a:ext cx="7993080" cy="39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2060"/>
                </a:solidFill>
                <a:latin typeface="Arial"/>
              </a:rPr>
              <a:t>1. Ενέργειες για την άμεση στήριξη επιχειρήσε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1.1 Μετατροπή του Προγράμματος «Εξωστρέφεια-Ανταγωνιστικότητα» σε ανοιχτό πρόγραμμ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1.2 Πρόγραμμα τύπου «Εξωστρέφεια-Ανταγωνιστικότητα» για τα αγροτικά προϊόντα Α’ μεταποίησης (ΥΠΑΑ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1.3 Επανασχεδιασμός του προγράμματος «Εξωστρέφεια-Ανταγωνιστικότητα» με έμφαση στην  υποστήριξη των δυνητικά εξαγωγικών επιχειρήσεων που θέλουν να διεθνοποιηθού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seve_logo_gr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92160"/>
          </a:xfrm>
          <a:prstGeom prst="rect">
            <a:avLst/>
          </a:prstGeom>
          <a:ln w="0">
            <a:noFill/>
          </a:ln>
        </p:spPr>
      </p:pic>
      <p:sp>
        <p:nvSpPr>
          <p:cNvPr id="66" name="Ορθογώνιο 1"/>
          <p:cNvSpPr/>
          <p:nvPr/>
        </p:nvSpPr>
        <p:spPr>
          <a:xfrm>
            <a:off x="108000" y="15732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Προτεινόμενες Δράσεις για το νέο ΕΠΑΝΕΚ από τον ΣΕΒ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Ορθογώνιο 2"/>
          <p:cNvSpPr/>
          <p:nvPr/>
        </p:nvSpPr>
        <p:spPr>
          <a:xfrm>
            <a:off x="395280" y="992160"/>
            <a:ext cx="792180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2060"/>
                </a:solidFill>
                <a:latin typeface="Arial"/>
              </a:rPr>
              <a:t>2. Δράση Προχρηματοδότησης Εξαγωγικών Επιχειρήσε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2.1. Προχρηματοδότηση Εξαγωγικών επιχειρήσεων με Εγγυοδοσία </a:t>
            </a: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του Ελληνικού Δημοσίο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Arial"/>
              </a:rPr>
              <a:t>Στόχος της δράσης είναι η παροχή προς τις Εξαγωγικές επιχειρήσεις των απαραίτητων κεφαλαίων με μειωμένο χρηματοοικονομικό κόστος λόγω παροχής εγγυοδοσίας από το Ελληνικό Δημόσιο για σκοπούς όπως αγορά α’ υλών από εσωτερικό/ εξωτερικό, στήριξη παραγωγικής διαδικασία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2.2 Χρηματοδότηση εφοδιαστικής αλυσίδας με Εγγυοδοσία του </a:t>
            </a: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Ελληνικού Δημοσίο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Arial"/>
              </a:rPr>
              <a:t>Η δράση θα προσφέρεται στις συμμετέχουσες Τράπεζες για να στηρίξει τους Έλληνες εξαγωγείς και τους προμηθευτές τους, χρηματοδοτώντας τις επιχειρηματικές απαιτήσει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2.3 Προχρηματοδότηση Επενδυτικών Σχεδίων Επιχειρήσεω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2.4 Ταμείο Υποστήριξης Εξαγωγικών Επιχειρήσεων (</a:t>
            </a:r>
            <a:r>
              <a:rPr b="1" lang="en-GB" sz="1600" spc="-1" strike="noStrike">
                <a:solidFill>
                  <a:srgbClr val="404040"/>
                </a:solidFill>
                <a:latin typeface="Arial"/>
              </a:rPr>
              <a:t>Export Fund</a:t>
            </a: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2.5 Μικροπιστώσεις επιχειρήσεω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seve_logo_gr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92160"/>
          </a:xfrm>
          <a:prstGeom prst="rect">
            <a:avLst/>
          </a:prstGeom>
          <a:ln w="0">
            <a:noFill/>
          </a:ln>
        </p:spPr>
      </p:pic>
      <p:sp>
        <p:nvSpPr>
          <p:cNvPr id="69" name="Ορθογώνιο 1"/>
          <p:cNvSpPr/>
          <p:nvPr/>
        </p:nvSpPr>
        <p:spPr>
          <a:xfrm>
            <a:off x="250920" y="189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Προτεινόμενες Δράσεις για το νέο ΕΠΑΝΕΚ από τον ΣΕΒ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Ορθογώνιο 2"/>
          <p:cNvSpPr/>
          <p:nvPr/>
        </p:nvSpPr>
        <p:spPr>
          <a:xfrm>
            <a:off x="324000" y="979560"/>
            <a:ext cx="856908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3. Ολοκληρωμένες υπηρεσίες για στήριξη εξαγωγ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1 Παροχή πληροφοριών για κλάδους &amp; αγορέ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2 Προετοιμασία δυνητικών πελατολογίω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3 Εκπαίδευση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port Coa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4 Συναντήσεις συμβουλευτικής εξαγωγώ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5 Εκπόνηση Επιχειρησιακών Σχεδίων Εξαγωγώ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6 Πρόγραμμα ενίσχυσης φορέων για εκπόνηση επιχειρηματικών σχεδίων εξωστρέφεια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2060"/>
                </a:solidFill>
                <a:latin typeface="Arial"/>
              </a:rPr>
              <a:t>4. ΙΤΜ </a:t>
            </a: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WOLDWIDE CONCEPT</a:t>
            </a:r>
            <a:r>
              <a:rPr b="1" lang="el-GR" sz="1600" spc="-1" strike="noStrike">
                <a:solidFill>
                  <a:srgbClr val="002060"/>
                </a:solidFill>
                <a:latin typeface="Arial"/>
              </a:rPr>
              <a:t>: Πιστοποιημένη Κατάρτιση στις Εξαγωγές - Σήμα Κατατεθέν στην Ε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2060"/>
                </a:solidFill>
                <a:latin typeface="Arial"/>
              </a:rPr>
              <a:t>5. Βελτίωση των υποδομών που σχετίζονται με τις εξαγωγέ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09:42:01Z</dcterms:created>
  <dc:creator>ΣΕΒΕ</dc:creator>
  <dc:description/>
  <dc:language>en-US</dc:language>
  <cp:lastModifiedBy>Marinos Tsiagkarakis</cp:lastModifiedBy>
  <dcterms:modified xsi:type="dcterms:W3CDTF">2014-09-17T14:15:07Z</dcterms:modified>
  <cp:revision>252</cp:revision>
  <dc:subject/>
  <dc:title>Slide 1</dc:title>
</cp:coreProperties>
</file>